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E5F2-8EEB-43D4-AABC-23EE6D43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5A3A-C21B-464B-8FE4-4FEA080B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470C-E338-4E4E-BD6F-CEC95394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1F1-892D-40C1-9FF7-55510503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948-4709-4A7E-83DF-CD18E8CD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079-E5D5-4DC5-B0E3-3EB5911A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7AE-E71C-496B-86FA-808AE7E3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0311-1A44-4CFE-8FA5-D3A9CDAC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D59-1037-42A1-BF2C-0C36D5B1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7C30-8E5A-40BD-BE26-EA38B75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3765-51B0-4901-BD8B-C72E988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5AEE-E3B0-420C-B7CB-AC00227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EDBA-1BF6-4B40-8E42-3B7F82E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C6C-3998-4CE8-A837-FDAE9A04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01E-A919-4E83-B362-1648EDBC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3EF1-ED6D-4EBD-BA0C-0600FF1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83D2-A58D-4601-B675-FE23DD9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5E8F-A7E1-4991-ACB5-A65594AF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A85-989B-49FF-B475-357154B7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86EC-2555-4B1D-91BE-7C5FF4A1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42246-DB7F-4208-A9A6-B35355D0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F13B5-394F-4540-9460-90D3321A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95405-D8DA-4818-BF3B-8F0B6273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FD29C-E8CA-409A-B6E3-083941C3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5E13F-0B1C-41F1-8446-861CB872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202-3E72-4972-8B8D-FF152E4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DFD91-381D-4BBF-B381-561AD11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E0AAF-C032-4E41-AEFC-8B4257B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AF3F9-2BD2-4512-B338-402DA61B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CD025-3A0E-49FC-9A3B-CFC3025A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8291F-FBEA-4984-94D1-0D511297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CE7D7-D445-44DD-9783-86C6E650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E8E20-0D92-4F1C-BD97-2DE33584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CE6D-FB8C-4168-A3AE-0191E621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6CDF-DA78-4814-8E1C-BCED62C9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6A1D-F04A-4839-84A5-73449C73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15E-9D60-4035-8A11-DBFAC1F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262C-F5C4-4FBD-8867-8B8A4EFB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F939-7CB5-4C2A-BC83-DB93888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9DCB-62DB-407C-9362-10AFB56C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58F7-51A3-411A-9E48-2EE41AC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4177-C04C-4BAA-ABFB-8595DAB5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F300B-AB10-4942-904B-101CCD5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A559C-FA11-4E05-849C-62B7041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C3D7D-8F92-47BC-90D6-DA8AF3A2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A585-FF55-4118-AA4B-41E556DC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A365E-3801-460F-98C1-AEDB85D4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936-3FA2-4728-B7A2-4553F342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170F7-22D1-4CDC-82C6-00D3D7D8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2D4AF-C731-4BBB-95FC-2F1CD541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2CD4C-842A-4E34-81D0-376E3AB3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4162D-38B3-4FE8-84AC-A55D0F2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9D2F4-14F7-4E10-BECB-B5D45DC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D4426-3C60-4DA9-8D18-CBA185FA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13B42-0FAE-4EFF-95B8-B1A687B2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213C0-5280-4EDA-AFC4-2CE90B30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1FD99-AA15-42F8-B32A-3BDD674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811DE-CCAB-4044-8D2B-E650DDB5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CF1-ADD1-4E19-93C6-AC7D178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252D4-C711-4BCF-9992-5D9F4C44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A2D92-EB4A-4169-ADC5-4572C2FC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5C77A-78B1-4919-88BC-C72865A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6F0F1-D996-4B79-B3FD-E3EDB3E1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20305-C91E-455D-A7A4-7CE8D44C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821CC-4346-42F7-8E19-421FF9A9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327AA-3DF4-4C3B-888D-86BEC41E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6913B-E06F-41D8-A154-4BA0A65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6403B-8D5D-406D-84D0-E523BC2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C89BF-85C4-4441-9AAA-FCD2C47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6E1-8CBA-4A2A-BE63-62AF099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336FF-4613-4126-8A0E-2A30F323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D50DF-BC4A-4F1B-9CA7-20895082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80F0F-FD05-4BD5-AA43-A2463BB8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3EE62-0A92-48A8-95E6-BC7BF328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4443A-EA0E-4232-A50E-0AE77F84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1C3B6-1321-45DA-89DD-8A741DC8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2EE34-91D1-4E05-818C-4D636FCA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39838-D9FC-45A2-9C73-EC761A52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54010-7E8A-41C3-A33E-1F887DB4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3FC08-4480-4D2C-9451-5451366C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7F0-27D1-4502-AB97-5207E17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A5F54-EC53-4EE5-B99B-D1D096ED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DC143-7244-4243-A7DF-E83ED51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F9060-5B2F-4288-B01B-E59D7CE7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6FC03-DFB4-4301-B920-3D78EC5E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81EAC-D87C-410F-8236-F4596FCC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9A8-BC14-4F1D-880E-B3101C6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6915-D12F-4BB0-9B99-4157577CA1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A81A-51DF-4E5D-AD46-0DC908534F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FA9-0713-49DC-87E1-D917A02E5C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4B1-7C58-4184-B9D7-88FF70C7D5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AA9A-E9A7-40BB-AA09-6745D9DE7C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BC3-7697-4C1D-BE35-CFCCCAF81C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0E36-386B-4E9F-B252-DFF4605065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1785960"/>
            <a:ext cx="71434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EGRATING FARMERS’ PRACTICES AND PERCEPTIONS INTO CROP MODELING</a:t>
            </a:r>
            <a:endParaRPr b="0" lang="en-US" sz="3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71360" y="5929200"/>
            <a:ext cx="71434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vember,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1143000" y="3143160"/>
            <a:ext cx="75722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ddisu Asfaw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nvirnmental Science, MS.c Student, Ambo Univer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rcRect l="7720" t="1648" r="69956" b="87124"/>
          <a:stretch/>
        </p:blipFill>
        <p:spPr>
          <a:xfrm>
            <a:off x="5929200" y="0"/>
            <a:ext cx="1752840" cy="130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2" name="Picture 1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85840" y="285840"/>
            <a:ext cx="85723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2 Major Crop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able 2: Common crop types grown across the three landscape posi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HHS and Field observation, 201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85840" y="1643040"/>
          <a:ext cx="8429400" cy="4295880"/>
        </p:xfrm>
        <a:graphic>
          <a:graphicData uri="http://schemas.openxmlformats.org/drawingml/2006/table">
            <a:tbl>
              <a:tblPr/>
              <a:tblGrid>
                <a:gridCol w="1928880"/>
                <a:gridCol w="3857400"/>
                <a:gridCol w="2643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Landscape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Major Cr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Elevation (m as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Upper 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Barley, Potato and Whe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700 - 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Middle 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Wheat, Teff and Sorgh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300 - 2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Lower 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Maize, Teff and Sorgh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&lt; 2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7520"/>
            <a:ext cx="82580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840" y="78552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3 Agronomic Practic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rop Rotatio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Used as a best mechanism (91%)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buClr>
                <a:srgbClr val="fec3ae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maintain soil fertility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buClr>
                <a:srgbClr val="fec3ae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eed and disease control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buClr>
                <a:srgbClr val="fec3ae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duce soil erosion and enhance crop yiel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llowed different pattern across the three agro-ecological z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438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8584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rley =&gt; Fallow =&gt; Barley . . . . Upper Zo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at =&gt; Teff =&gt; Wheat     . . . . Middle Zo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eff =&gt; Sorghum/Maize . . . . . . . Lower Z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. Fallowing Land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monly practiced in the upper zone (on 28% of 15 fields  or 9% of 45 field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571320"/>
            <a:ext cx="88581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i. Tillage, Fertilizers and Seeding R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able 3: Tillage frequency, fertilizers and seeding rtes across the three landscape posi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28760" y="2286000"/>
          <a:ext cx="8143920" cy="3976560"/>
        </p:xfrm>
        <a:graphic>
          <a:graphicData uri="http://schemas.openxmlformats.org/drawingml/2006/table">
            <a:tbl>
              <a:tblPr/>
              <a:tblGrid>
                <a:gridCol w="657000"/>
                <a:gridCol w="824040"/>
                <a:gridCol w="809640"/>
                <a:gridCol w="763560"/>
                <a:gridCol w="763560"/>
                <a:gridCol w="763560"/>
                <a:gridCol w="601560"/>
                <a:gridCol w="839880"/>
                <a:gridCol w="639720"/>
                <a:gridCol w="844560"/>
                <a:gridCol w="636840"/>
              </a:tblGrid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andscape Positions with their major cr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anagement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Upp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iddle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ow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B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ot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orgh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orgh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FR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D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illage F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R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28440"/>
            <a:ext cx="8400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6% of the sampled crop fields were tilled 3 – 4 tim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2%  1 to 2 times and 22% tilled 2 to 3 tim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3% of the monitored crop fields used no fertilizer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7% used at least DAP or both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85840" y="78552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. Compost applicatio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ery few farmers applied compost/manure to their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rop fields (13% of all monitored field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. Crop Variet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3% of HHs used improved varieties on the monitored crop field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remaining 47% used local varieti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85840" y="71424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. Weed Control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 addition to frequent tillage and crop rotation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7% of the total HHs removed weeds traditionally by ha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nly 33% used agro-chemicals to control weeds (Barley and Wheat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928800"/>
            <a:ext cx="88581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i. Rainwater Management Practic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 addition to the use of improved varieties, farmers applied very limited types of RWM syste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most commonly used was surface drainage (100%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me farmers used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5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ut-off drainage (6.6%)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5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ep furrows (11%) and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5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ep tillage (22%)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85840" y="92880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ii. Cropping calendar, Methods of sowing and Harvesting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lanting date was determined based on the time of onset of rainfall and optimum soil moisture required by each crop type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st farmers (88%) practiced traditional method of sowing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ll sampled crops were also harvested traditionally with hand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329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4 CROP PRODUCTIV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5840" y="92880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Chart 3" descr=""/>
          <p:cNvPicPr/>
          <p:nvPr/>
        </p:nvPicPr>
        <p:blipFill>
          <a:blip r:embed="rId1"/>
          <a:stretch/>
        </p:blipFill>
        <p:spPr>
          <a:xfrm>
            <a:off x="353880" y="1206360"/>
            <a:ext cx="82965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8296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5840" y="1356840"/>
            <a:ext cx="8858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w water use efficiency is a   challenge to crop production in rainfed system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ter is getting continuously scarce due to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creased demand and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rinking availability induced mainly by climate chang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3296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. . .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Content Placeholder 3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8186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258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5 AMOUNT OF WATER CONSUM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5" name="Content Placeholder 3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001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115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6 PHYSICAL CROP WATER PRODUCTIVITY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Content Placeholder 4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7858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0438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3.7 ECONOMIC WATER PRODUCTIVITY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814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2580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entury Schoolbook"/>
              </a:rPr>
              <a:t>4. DETERMINANT FACTO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85480" y="114264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conomic WP shows variations due t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fference in agro-ecolog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rop types and variet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ypes of precursor crops used in the rotation systems and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ate of inorganic fertilizers us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3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entury Schoolbook"/>
              </a:rPr>
              <a:t>5. CONCLU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57120" y="1142640"/>
            <a:ext cx="8429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Farmers used their own perception and practices to enhance crop yield and thereby improve CWP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They have adopted tillage and crop rotation methods, agronomic practices, and RWM practices to maximize yield from available wat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85840" y="999720"/>
            <a:ext cx="8501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mong the major crops the leading water consumer was maize followed by sorghum and potat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tato was the most appropriate crop both in economic and physical WP in the upper zo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eff  had the highest local market demand from all other crops in the middle and lower z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50104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030a0"/>
              </a:solidFill>
              <a:latin typeface="Century Schoolbook"/>
            </a:endParaRPr>
          </a:p>
        </p:txBody>
      </p:sp>
      <p:sp>
        <p:nvSpPr>
          <p:cNvPr id="417" name="Flowchart: Punched Tape 2"/>
          <p:cNvSpPr/>
          <p:nvPr/>
        </p:nvSpPr>
        <p:spPr>
          <a:xfrm rot="21388800">
            <a:off x="341280" y="1207800"/>
            <a:ext cx="8218440" cy="393840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entury Schoolbook"/>
              </a:rPr>
              <a:t>Thank you for your atten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…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85840" y="92880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 agriculture is the major consumer of water, improving CWP is among the ways of overcoming the challeng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major objective of this study is, therefor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9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estimate WP of major crops grown under rainfed system through indigenous knowledge of farmer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MATERIALS AND METHO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Content Placeholder 2" descr=""/>
          <p:cNvPicPr/>
          <p:nvPr/>
        </p:nvPicPr>
        <p:blipFill>
          <a:blip r:embed="rId1"/>
          <a:stretch/>
        </p:blipFill>
        <p:spPr>
          <a:xfrm>
            <a:off x="407880" y="914400"/>
            <a:ext cx="8102880" cy="5767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857160" y="2928960"/>
            <a:ext cx="5143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115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…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85480" y="928440"/>
            <a:ext cx="8429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2 Data Collection Method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armers’ practices and perceptions were understood through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HS and personal communications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cus group discussion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formal surveys and,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sonal Observation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…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584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presentative crop fields were randomly selected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gronomic practices implemented were monitor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M and GY or TY of each crop was determined using a quadrate sampling metho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WR was simulated using CROPWAT model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rom CWR average WC by each crop was calculate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oth PWP (kg/m3) and EWP (birr/m3) were determined at harvest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WC = ETC – I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CWP =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Century Schoolbook"/>
              </a:rPr>
              <a:t>Crop Product (kg/ha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WC (m3)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Century Schoolboo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RESUL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1071360"/>
            <a:ext cx="8572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sed on the farmers’ practices and perception the following results were obtained 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8584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1 Local Classification System of Agro-ecology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1280" y="977760"/>
          <a:ext cx="8786880" cy="5249880"/>
        </p:xfrm>
        <a:graphic>
          <a:graphicData uri="http://schemas.openxmlformats.org/drawingml/2006/table">
            <a:tbl>
              <a:tblPr/>
              <a:tblGrid>
                <a:gridCol w="1428840"/>
                <a:gridCol w="3571920"/>
                <a:gridCol w="2043000"/>
                <a:gridCol w="174312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able 1: Indicators of  local agro-ec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andscape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ocal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Natural Vege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Dominant cr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Atmo. Temp. cond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Upp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Qerero/ 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Amionguria altuss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Koso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Hagenia abyssi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edar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Juniperous proc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Olive 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Olea erpaea . . .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Barley, Potato, Enset &amp; 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old - Very c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iddle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hola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Ficus Sp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Zigba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odocarpus gracil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Broad-leaved corton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roton macrostachys . . .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heat, Teff &amp; Sorgh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arm - C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ow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anza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ordia abyssi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arka and,Acacia tress. . .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aize, Teff, Sorghum &amp; Niger Seed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Very hot - H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32:44Z</dcterms:created>
  <dc:creator>ACER</dc:creator>
  <dc:description/>
  <dc:language>en-US</dc:language>
  <cp:lastModifiedBy>ACER</cp:lastModifiedBy>
  <dcterms:modified xsi:type="dcterms:W3CDTF">2012-11-12T11:23:25Z</dcterms:modified>
  <cp:revision>28</cp:revision>
  <dc:subject/>
  <dc:title>Integrating Farmers’ Practices and Perceptions into Crop Modeling</dc:title>
</cp:coreProperties>
</file>